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F227-CE91-4043-9CF6-17DB450BE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-few people share out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8499-3D5A-4DFB-B57A-2C5C40549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-share with a partner and then few people share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63F3-6730-4630-AC1E-F067D0C1F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-have them post on large sheet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80CA-617F-4725-8B9F-5490F95DE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508D-D095-4E38-BA25-79B36B1FE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85A-C03C-47AD-9885-BE9F2C844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1FD-1736-4B50-9635-C38DABF7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5F1-B37F-4DEE-9C98-DD05C286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49A-7DCA-4D89-8ECD-8DEAACB5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D1D-3936-4911-9FE2-C74E992F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7032-A510-49D4-8C4E-DB6D7820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2CEB-1DE0-482A-A576-E2131501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5B6D-2992-4B00-95C3-5487714B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AA72-5617-450F-B347-BD4888C0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656E-4C7E-4E6B-8A99-271B561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CFB9-620A-4FE6-AA79-41E90509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362B-35CA-4CA5-BA69-9AF4D8B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410-1DBA-4B10-B2CE-DC8154B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5D23-BD15-4649-A868-0807454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BA24-7790-4D4C-8D75-0370748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85C1-712C-40A1-929F-89B71C32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EF55-86D0-457B-BDD7-8A96F062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2FD0-0EFF-4CC8-A3B1-49DEBA8A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7B53-A256-4054-B3A4-F7FA6252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BDD4B-6573-40EA-BF25-DABE69CA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FB16-B967-4FA8-BDC4-2D6C0946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4ECE-42F7-40DB-8218-5C41D89A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0C91F-A417-4F50-B255-1EAE4ACF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840-59B8-4693-8004-E1AAAC70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2E1F-B1F1-4C86-B83C-1570CB5D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729D-1F78-4298-B07B-0F507F0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1C1FE-ECA6-4872-8B23-69503AD5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A2D5-EF48-47B8-B049-03F5BA49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84A7-4B35-4A49-BB15-ACAC6F3A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8795-18F2-40D6-994E-E7642EFE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AF43-CCFB-46E9-A81F-87908D57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F0AF-4953-4251-BFF4-4246A10A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6D7B2-072B-4DA2-9C44-87AD438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F917-ADCE-4BE4-A643-3A7760F1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ECD-C8BD-4348-8C5E-98F66F6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9EED-FF5F-48DA-970D-6957BFB0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29A0-6DCA-48D3-8F70-036C4C29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ACFD-A525-42FC-84B6-43A8F84B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97DF-9CDC-4460-AB85-011D377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9F23-C737-4735-84DB-1416305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7A17A-76CA-48AF-9509-E28C9657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3080-F90F-45D0-9BC7-70871323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63ABA-02D6-47C9-871C-FF820F44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79636-DD67-4CF0-9567-A1B27C3F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39D4-9464-4EAA-9EC4-A3A6533C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982-9D40-488E-BC00-F21EBCC9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7F0A-F143-4B2D-A163-848A1104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C3F7D-D3DD-4955-AD19-4D803861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C55D4-7849-42AA-BD09-92D7A4D6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70514-F158-46E9-904A-2A6A26B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FC25D-1F49-4F88-B36D-B4A11571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E6B7-F45D-46C4-85C7-7B93153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12109-9ECA-4658-B4D3-FE60EF7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79E1-8091-4633-9710-BE0A842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6A24-F764-45BC-BA34-8042A8C5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32AA8-FAAB-4FDD-916B-1908E230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DC2-C9DA-49CD-A0F8-FC953C4F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91782-6318-4FC0-940B-C341DBA2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2AE71-05FD-446B-81D4-453113ED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023AB-237F-4979-8C34-431E84A5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15D92-3D4D-49D3-B0F4-46F3B84C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D24E0-B802-463A-9758-22F026F7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66C4E-F014-49EF-BABE-E4BEDF79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762F3-A55F-40BE-BB84-A93FF343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6C602-5E7E-429C-BB74-B1B2051F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425E2-553E-475B-B2B0-1A7E90E7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12CF-02C0-4DFA-9249-6BF26CA6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BC2-1960-42FD-8248-78DECDC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29A59-6FE4-414E-AE6E-940A1558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BA37-BFE7-44C2-8893-B53FCEB3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8DB2A-A724-4365-BFFA-AAFFFB8A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D75F5-94FC-4EEE-8AA4-DDDF4E8B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DBAC8-6F14-4A8E-908F-547C0A35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951F-21E8-49BD-B745-C0B66381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FFB80-02F4-4360-A723-3538F7A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B1445-C68D-4F71-82E1-EB84575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119F8-5DE6-4FC3-9F7B-2801D380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D7A4C-AD75-45A5-9A41-205A284F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BBF-7AC8-424D-AB50-EA5297D3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819B1-DC9A-4847-B982-6ADB01E8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0D64-F0D4-48E0-81D8-ECA9FD1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91A9A-9AAC-44F7-9248-31C0265D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53910-5D67-4329-9D99-26AA8055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10D89-169A-427A-957F-7578E72A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4D548-E856-40F8-B942-35C1D3EC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F61D0-DD76-461C-986B-AE620098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0ABE0-94FB-4E71-9E83-E9512824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3694E-4043-460A-9072-85C07176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04606-9CC1-4151-AA19-7988CFF4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F7F-9CBD-4EBF-84FF-21586C16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135F0-440B-482F-B87E-823A46EC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CA9A-B15A-4978-9A8B-4D5AAA0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66633-C916-4BA7-85FD-76F664D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2B3FD-3B4D-44D5-B332-63D0238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49FD1-A029-4603-A907-B8866304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CFD18-8124-4D17-BCBF-4D7F36FD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43B2F-E3D4-4D7B-8402-24F5D43A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001-6718-4151-A7AA-6CA2000A37B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5742-75CA-4C25-B7E1-5AFE4C4C591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7D7B-5845-4F57-92C7-EBBC024E65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FC8A-701B-4B1C-B5BD-4D8634DFF9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72F2-152A-4670-9DF4-48A58C6DFB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40E9-DD67-43EC-BA5A-989927EFEA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1598-68D9-4D0F-98E8-657D5DB3C46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8A66-889E-4EC2-8FC7-58A7E17B2BB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30960" cy="22557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mall Group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y 16, 201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Explain why Write to Learn is a powerful tool with respect to formative assessmen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96840" y="201600"/>
            <a:ext cx="85899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What did the student work tell you as the teacher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How did that affect your instruction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96840" y="201600"/>
            <a:ext cx="85899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On separate post it note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hat was a success with writing this year with your students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hat do you still need to work on with writing with your students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96840" y="201600"/>
            <a:ext cx="85899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20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61760" y="3276360"/>
            <a:ext cx="7924680" cy="2895480"/>
          </a:xfrm>
          <a:prstGeom prst="rect">
            <a:avLst/>
          </a:prstGeom>
          <a:solidFill>
            <a:srgbClr val="ffffff"/>
          </a:solidFill>
          <a:ln w="9720">
            <a:solidFill>
              <a:srgbClr val="2da2bf"/>
            </a:solidFill>
            <a:miter/>
          </a:ln>
        </p:spPr>
        <p:txBody>
          <a:bodyPr lIns="182880" anchor="t">
            <a:normAutofit/>
          </a:bodyPr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rite to Learn small group P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rite to Learn large group P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upport from Write to Learn te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arity of Write to Learn objectiv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ontent cover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444680"/>
            <a:ext cx="40402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sitives or what worked wel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44720" y="1444680"/>
            <a:ext cx="404172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onstructive feedback about improvem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at systems/supports need to be in place to use writing as a formative assessment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ow can you use writing as a formative assessment with your content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ceptual Physics examp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velop some ideas for next ye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96840" y="201600"/>
            <a:ext cx="85899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4:32:27Z</dcterms:created>
  <dc:creator>L-Net</dc:creator>
  <dc:description/>
  <dc:language>en-US</dc:language>
  <cp:lastModifiedBy>Curto, Sara</cp:lastModifiedBy>
  <dcterms:modified xsi:type="dcterms:W3CDTF">2012-05-16T18:41:41Z</dcterms:modified>
  <cp:revision>5</cp:revision>
  <dc:subject/>
  <dc:title>Write to Learn</dc:title>
</cp:coreProperties>
</file>